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F52-D475-4593-959A-EC43393B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B51-E5A2-4DE3-85A1-F29DF9C2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982-1791-44D2-AC0B-25F0F363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57E-7CF0-48E3-9D85-ECDECFB7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C61-5B2C-4C99-9D8A-1F5560E1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A47-6B3A-4710-8FDE-ABCEBE79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AB2-23D6-47E1-AEE8-4AF3DD98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B8E-24F6-4BC9-A6E8-51E79D3F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C10-2138-417D-AF2A-04B186FF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7D3-22D0-4259-8383-DBCB4220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396-F642-4C4D-B135-E56E79B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D8C-A642-43FA-822F-378298F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29BF-A4C9-4533-A777-E235E1882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7129440" cy="6819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19640" y="3141720"/>
            <a:ext cx="1247760" cy="143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F:\it\2 етап\Їжачок\морозиво Хрустик.jpg"/>
          <p:cNvPicPr/>
          <p:nvPr/>
        </p:nvPicPr>
        <p:blipFill>
          <a:blip r:embed="rId3"/>
          <a:srcRect l="17059" t="2017" r="19458" b="5013"/>
          <a:stretch/>
        </p:blipFill>
        <p:spPr>
          <a:xfrm rot="21313800">
            <a:off x="3174840" y="2850840"/>
            <a:ext cx="460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0:22:38Z</dcterms:created>
  <dc:creator>viktoria</dc:creator>
  <dc:description/>
  <dc:language>en-US</dc:language>
  <cp:lastModifiedBy>inst</cp:lastModifiedBy>
  <dcterms:modified xsi:type="dcterms:W3CDTF">2012-11-27T13:09:44Z</dcterms:modified>
  <cp:revision>4</cp:revision>
  <dc:subject/>
  <dc:title>Слайд 1</dc:title>
</cp:coreProperties>
</file>